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F91-79CE-4706-A27A-3ECDD789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BD5-2748-4742-A1DA-16443859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35E70-81FB-4BC3-83FB-5FFF716E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9FC2A-E9DA-4CFC-A522-3A26C2CC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29460-6F84-48E9-B2B1-78E10A2A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7B851-8D60-4D74-BC8A-7870383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9F364-02B9-4169-BE86-754AC3B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FE75B-FD91-4A9D-B029-ECB8FFF6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CA447-9791-4B19-BAA2-F83BA61F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7C288-4FD0-4891-AE2E-320A9F7B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C9438-EC4F-4952-8382-793009F0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6B5E5-E837-4C11-AF8C-828D5176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745-A482-4944-9762-B44E92F6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C8031-840F-4B65-9988-8A878567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FCCD1-4EBA-4AF8-A85F-3B39951A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A09AD-C187-4070-A612-9B7FFE15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B3163-9EB3-4834-A944-8E42880F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AE6EF-02CB-4C43-A941-9E6717EB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00650-D99E-4855-9121-260AEFC9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63438-72C2-4573-9EC5-7BD0D632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09C0A-7CC4-4919-B2D8-8A47E27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F3145-A30A-456A-8500-7E736F6E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82A09-0C7A-4EBD-8ACE-42228DC4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CBD-374D-4B5A-AB4C-21140319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7A702-4408-4B1E-ACE6-BA407A85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AB164-B31D-439C-9BA7-199A8BAB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254CB-538B-4339-9CCF-0D13C2D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4E013-8FBD-432C-931F-D362DBB6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6ABA4-737F-4BEC-9AE3-D0EC2927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59A8A-A2C2-427D-8CED-54E22B00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884E4-8137-4718-9297-4B2179B5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A8FD2-9C4F-4704-B877-298B632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74CA7-A349-4D7C-AEDD-F08593D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EC3C0-20FC-49BE-A307-BA64431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CB0E-4697-414E-802F-65C23759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17024-7FD5-4F32-BE3F-19EA6D45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BCF87-6522-4CA6-B1B8-6D1DF755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3231B-0462-477D-A444-598A80A5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D3938-FEDC-4FDA-9B7E-270C5135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9258F-DCA2-429E-8788-4CE313E4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76302-3AEB-4891-8BBC-9C9220F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63C63-373F-459D-9925-77FD87CD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17051-23E6-49C3-BE4D-E063B657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4BE70-33A4-4EA1-93D7-53E4B0ED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65370-A7EA-4E62-A386-FDB85EF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A6CB-EFF6-4DD1-9FA8-09B550D5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96CAB-6333-47E6-A2F1-499393D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04747-A424-42AE-9DC9-0879ECB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5F969-668A-49DE-B39E-44E53810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3A937-C6B1-48F3-B2D4-A4B03DDC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07FC5-E56B-41B5-A80B-6AF495E3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066A-6816-4204-85AD-3A3B44B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93AF-DCC8-461F-8018-26140047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F4EE-2A77-4411-A7ED-7339C731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24B2-49CB-468A-8A9B-E9468A93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5715-1D6F-429F-AF01-8D746986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824-2C40-4F70-B9D7-518D448C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267A-F51B-4F51-8251-B914759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0C38-F985-40E0-B6E0-367CAFE1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A90B-E749-401C-BB63-E6831429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5EF9-D359-429E-89D3-9FDC1358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F177-4381-49E8-A1F9-32B33C00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2B7C-7297-4411-9C19-03D3EB07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0403-15A4-4A8A-BD46-62953034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FBB6-3FA1-42CA-A0D0-7405F3D9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D16C-4C20-43DF-B3A6-358C72AC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0C77-E0D8-4223-A4DB-4A800621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84D-4B0D-4604-9EBE-C3E49FD1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C295-7674-4147-B454-A2765C2B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B03E-9A0A-46E9-A8AA-1E5952FB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3DDC-A13A-446B-BD2E-E3420153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F354-48C2-4789-A15A-01E5067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6294-893D-4A13-B746-4A4E7F8E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E1FF-3399-433B-ABAC-9B227BA8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A66C-14DA-4EF7-9056-A3EB10AD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A618-2E4B-480A-B275-787C9499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BBED-BCDF-4978-82B5-31A2DFAB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1D16-7AAA-496E-B820-5F1D99A7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C22-BCAF-4013-B22E-52A40C7C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E26BE-0323-4FE7-9BAF-606B513B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D86B2-F074-46A9-9FB3-18FCF394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ECB2-388D-4D4B-B267-31684933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32BA1-F46B-4193-9BB7-CED1CD2D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BFC8C-911C-4622-8258-FAF9D8BF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6F5FC-1046-484A-9614-346E9CC6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C5C96-2A37-4B9C-8E51-F1C0EB22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06B27-A41C-4A61-9CDD-F65673C9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3757D-B01F-40B4-AB1F-198AED17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E9021-2286-4340-824B-3B8A8F27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2B4-620D-49E5-AF16-D5DC9EBC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3712B-357D-498C-B495-ACDEAACF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F56C-5FD9-4B74-8C7F-9DF887DB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78D4C-9BC6-4B8E-977F-0458FF15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19668-5CB4-4BA8-9EA9-3E69D35C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AFE78-657B-48CF-A4AC-1A2CDF21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EFD7-8704-48DC-B92D-63E1E0D3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F098-888E-4129-9950-1DA4F714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7B8A4-F288-4781-B0F7-969B874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B63D9-F2A1-47DA-B0B2-C77B8AC6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9934C-9CE6-43D4-8FED-A936F14D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17F-45C1-4F94-A735-C4B52991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8348-DC03-4E56-B245-CF47AA6D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CA556-5E78-4B2A-8120-0110F7C8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3AF5D-67FD-40CD-8778-C9D75BA5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108CD-09F4-4951-BEC1-A69AB8A4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C74E0-1224-4DF3-8BC9-942E7841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96922-9055-4683-82A6-73D93480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79C71-42F1-4815-AAA6-DAC48579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08081-B599-4B73-96CF-64017E85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3D0E8-DDC9-4A56-906D-0AD34560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F0496-E7C5-4455-BFC7-2667E4A2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E44-38BA-41DC-A1B5-B308A2B8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87A67-9486-4325-AA47-F50A0C0B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8989C-9BD3-4F71-A7E6-1177C3BD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10F9D-E267-4B2B-B1D6-AAF8C89A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84A8C-B5F1-4667-8336-98DFAF60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F0949-75EE-4289-896A-2628F666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469CD-C4E7-431B-8006-9ED37B9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35F3F-0952-4CE7-B7E5-9EBB7799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97BB4-DDC0-4C77-B951-8C656FA5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E12F-3E4D-4EC7-A0CC-9DBC3445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3520B-11B2-4A91-B827-C0704603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5EF-9D37-42A9-976A-AE73F3B0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D2C81-CD7D-4E28-9F49-FF80D0C8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E9D7F-F44B-405D-8AD9-F3C50594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4230C-8DD2-4F76-AABC-6AD8E7C8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06132-B4DB-46DC-834F-A0A991B6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07B1-1E83-4C23-94A3-E6D50598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892D1-4C63-4AB7-9D73-FEB55B8B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E7E11-D06C-4532-9CFA-B6C45220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4D4BB-D43C-4D61-A877-CD285AE3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CE8F-FCD9-4E0C-ACBA-12E88C56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A484C-DCE3-44D6-899C-F218D3CC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C6B-DAF4-4A0E-952E-D09FAD38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2D248-F824-4FE1-8836-35EDD69C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D7660-6394-49FB-AB2E-653EB5DB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7E4BE-520A-431D-89FE-E65805C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0877B-2949-4768-9244-A9520E89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6550B-6961-4C49-9D51-50940FF8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1F4E2-0FA5-4618-B237-769A7153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773D-80CA-48B3-85B9-EF6A7129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C5AFD-5730-45F3-9E0E-7CA10A50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C0DA5-34CC-4A35-BA7E-9D3C41AC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49362-5D81-449C-864F-232A1BF9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E63B-3E4B-4BE4-A5F8-3AE51246CE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AA98-3C6B-4E56-9250-9BB4A88326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E1C6-5BB5-48C3-AE68-3597C5BFBF8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270F-7E20-4385-871C-49A078F186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1ACB-EB75-4118-847D-77BAF00D91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3E6F-6AF5-4E98-B43F-B71FB99454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234E-82D6-44EA-91A7-C385F53A2D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7936-BF73-4D35-9BE1-15D5BDCC82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2F26-E925-4737-8AE3-88FBCC6C7C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CF44-706B-4FF0-B136-AC12F1B796F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5DDC-72F6-486A-A336-F77C83C074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9309-0469-4A9C-BEED-9DC0AFEC2D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7 Ja v nebi láskavého Otca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bi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ého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ca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eho pohľad viery upiera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ve ma z tejto cudzi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zasľúbenej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lasti večnej nádhe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jeho lásky oc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ebi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pasiteľ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vojho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mám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6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a jeho milosť sa tu spolieha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44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ve ma z tejto cudzi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zasľúbenej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 pre moju spásu 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budem smieť žiť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pripravený veniec slávy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hlavu vloží mi ho Pán môj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ve ma z tejto cudzi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zasľúbenej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hotový hriech zanech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hotový hriech zanech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jeho lásku bezmedzn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jemu vrúcn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vzd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4-10T07:59:13Z</dcterms:modified>
  <cp:revision>21</cp:revision>
  <dc:subject/>
  <dc:title>Je veľký náš Pán, on slávy je Kráľ Nech do všetkých strán  spev vrúcnych znie chvál.</dc:title>
</cp:coreProperties>
</file>